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3040" y="812880"/>
            <a:ext cx="53132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102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78240" y="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4277880" y="10155240"/>
            <a:ext cx="3243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8F8C-BD61-49C5-954B-0F52D29AA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DCCB-C5E0-4BD7-8EFD-43836FFB43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CED8-0252-4D5C-8B4B-AA25A891D0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223A2-AE33-4C80-87DF-8658CA858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9A3B-FD65-44A8-A9E8-9CD0BE2986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E650-F2BC-4D6B-B44B-8C2E98933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E9A28-77C6-4295-BA1C-B52A752CC7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A1AD5-5061-4F61-8ADF-D5C6754595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6FF83-764B-43C0-A23C-63BCB1A4EF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7FEFB-1756-4A21-BA3A-D88CB37939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60E12-5C88-4BB9-810B-1C9B451D58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70D3-6DC7-4F3C-B57A-02441A1C38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834C3-BAA8-4FA1-AECD-2004C9E1EF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F3FCC-F320-4726-8817-F9F42A8C8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DAC9C-B1B5-4A44-8296-B42B7CCB2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1A7F7-F872-40CB-A1A8-D8BF3D98D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0DBE8-385C-4D0B-9573-56220C3FE8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37DF5-DFF3-4FED-8B27-205D4C585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F4682-8A81-4E48-94A8-69CDD3E58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D5D9D-D483-4B7B-936C-98FFC0CA5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A99B-378A-430E-ABCA-D9DDB6FA5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63CB-85C8-4D82-B20B-F8DF64CF0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C602-BE1A-4E03-9341-53FCEC420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3897B-DAC5-4BAB-9752-F9372A5D15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D9057-9A5E-44FC-AD9C-7FF615BD0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268EC-0945-4484-BF64-A95461C47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90D79-089C-4304-9B7A-426B2E2F4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5699C-7FA8-4BA4-93D6-9F4F0057E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4146-3221-40A2-ACF7-7380B0365D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4F58-EA50-4F86-B0FA-846C4A5D6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A291A-4DF7-463D-A01C-FFF857C71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7B1D2-CE15-429E-886B-81AD84C2A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CF0CF-B599-44BA-8F94-90925FCB4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77B25-BD98-4645-A314-1CA96032F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716F8-78D3-4D55-A181-89FC1E590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14EC-36DE-4775-BF72-324B7E0E2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B6D5E-1395-4F0D-9BE8-7F2BE5C74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94E76-A507-433F-BE1D-36982A26D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E6267-494D-4F5B-BD7C-8FB90B0CD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4E076-DB45-454B-9571-220DA1A2D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E67AB-9DCD-46A3-BC41-C72AF6CAE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6A47D-D348-48A1-9934-4D5F163ED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37225-7B18-4056-90E0-C91BE1046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53811-78ED-4255-8887-6BA290C6F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90102-00DA-4334-8BC4-13A38064D2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DB3C0-83E2-4B34-8D1C-23C6F27D0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78240" y="10155240"/>
            <a:ext cx="3259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70F51-E6DC-48AC-A1A6-526136DC9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06640" y="812880"/>
            <a:ext cx="53337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FE360-3B99-4705-95A4-F619BDB1D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655F3-63B1-4914-A7F1-2C4A124B4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8D292-C653-4CB5-927E-572D8BB084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54289-5D78-489F-B441-FFEE955F1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08669-DED5-4609-BF2B-9B958C70C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6379-9BA4-4B86-942E-DAC88125A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8F45F-6D14-4F50-B0E6-848D4C0FE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7B920-1F0B-4E85-A9A8-B9F79AC7F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143DA-D8A4-42A4-878F-D06F41F43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89000-3D32-484E-BABD-7D8645321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8B8AF-3CCD-450F-AFA5-B6EC4C1D24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A7E0F-72A0-4614-9C3C-8B3581809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EA8DB-42DF-43E1-ABF9-CF35F5B379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2CAB0-73AA-48C8-92B7-C6AF4D92F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5F431-8810-4120-B099-010040552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62037-AA6B-44B4-A7AE-C58064A66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00319-EC3D-4005-816A-8F1B07338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E7FB1-79A0-42B7-B26D-573DF4B11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F566F-EA2E-4BFF-9561-6F5283A0D8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835DB-3521-4B4A-8BA9-A91032F94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F5F6C-E33E-4770-A0D2-27F978FA5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5AB8-151E-404F-84C8-A97B89E7E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E30D7-4232-4EC2-A9F8-319766913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B520B-8BD3-411A-A02A-5E128E149A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19AAD-4EF5-4E7E-AF28-B1742E3A4B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DC349-4E53-45B4-9305-72DE3FA3D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37CFA-3624-4E00-A850-9368BC642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6762F-03E0-42DE-9BC6-5E0FFC958B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2801A-614D-4DED-9E13-31FE22C23A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00DC6-6546-4382-9764-2D46B6DBF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C2DB-D821-43CA-9D63-8D428EEE6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D405B-F72F-411D-9F6B-18EB37FC46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2C8E-2884-49F9-AD47-814355C89D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83BDF-9E7F-4063-BF72-7E5B892537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DD37-30A7-4345-A258-0259768A48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4E66F-E98A-4ABC-B3AB-8C31A2867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03400" y="812880"/>
            <a:ext cx="532764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EF990-2E23-4C6D-A43B-A221762D6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D6F7A-6D6C-41E0-A5F1-F219A1704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278240" y="101552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DD91-F1F0-4904-92D1-53A0932FC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78240" y="10155240"/>
            <a:ext cx="3257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DEC76-065F-4121-A986-47E175CA3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06640" y="803160"/>
            <a:ext cx="53481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200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F83C-751D-4921-96BB-078E2EB18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7D62-DFD6-48EB-9936-BB1F7453E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048B-21A6-424C-89EC-05D4F1915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958E-EC45-4B1F-A233-7D62A360E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F125-4534-4589-A335-4AAB96DAB3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2140-6549-43B3-8522-5E10D44A51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34CB-E1A8-4845-9203-1F8058DF52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F835-96F5-4649-8386-F82AAF00B9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CDC3-C1C2-4260-8A24-0CAECE5714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BCB3-C820-43E0-855B-71E3E167AC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6196-6B64-443C-9EA7-1352C23E9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F23D-EA42-4666-85FE-56820951E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36FE-A624-4CE6-B551-31F056A983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546C-CDFA-4B92-8BA1-0FB6A3D4AC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D6F8-05D7-4B04-BA4A-92DD9945E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350F-2907-4305-AA16-9CBE007084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0A09-9E32-49EC-A35B-0B873E27BF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260-F0DF-453F-ADA8-C3A8F52BAF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D24-B0A4-4A8D-B652-DFDA05E227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E41-5480-44B8-83B0-4100D613DE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3DF-21BD-4A0E-9D66-53DE3AA889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BB4-E13B-468F-AE6B-CAB87325A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3DFE-6AB9-42D4-A39A-CD4367BACA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DD0-329B-44CD-A8BE-A288D86399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B2E-91AB-4972-A4EB-EA6A37B168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A94-307C-4516-ABD2-48FB67E0D2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8FB-6617-4652-8C40-FBED32DFC5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B71-C50B-47E3-BDAC-5D24B94B83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1BF-0B5C-4F04-9557-3B1ECE1C3E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6652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29760" y="213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6652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29760" y="4653360"/>
            <a:ext cx="291708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267-CD1D-4617-9A3E-0AD49F7FD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2C71-CE76-4A4B-A6CA-1A44E250E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4FD4-DCF6-4E58-8BE6-55479DEF9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309600"/>
            <a:ext cx="905976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85E2-1DB9-4498-826C-5EAC5EE43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1A33-059B-4FEC-A734-1D822AECC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5480" y="465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417F-3D3E-4EDA-B3BF-0E8B878BA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5480" y="2133360"/>
            <a:ext cx="442080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53360"/>
            <a:ext cx="9059760" cy="230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8096-8DCB-49EF-A484-E6F915213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A6AFB-88D1-4125-9A45-DAC854A621C1}" type="slidenum">
              <a:rPr b="0" lang="en-GB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8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53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00D4702-4270-4FE3-9B89-2F55C54D8479}" type="slidenum">
              <a:rPr b="0" lang="en-GB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20520" y="223920"/>
            <a:ext cx="10117080" cy="711000"/>
            <a:chOff x="-20520" y="223920"/>
            <a:chExt cx="10117080" cy="711000"/>
          </a:xfrm>
        </p:grpSpPr>
        <p:grpSp>
          <p:nvGrpSpPr>
            <p:cNvPr id="103" name=""/>
            <p:cNvGrpSpPr/>
            <p:nvPr/>
          </p:nvGrpSpPr>
          <p:grpSpPr>
            <a:xfrm>
              <a:off x="-20520" y="223920"/>
              <a:ext cx="10093320" cy="711000"/>
              <a:chOff x="-20520" y="223920"/>
              <a:chExt cx="10093320" cy="711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068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20160" y="5281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20520" y="276120"/>
              <a:ext cx="10117080" cy="612720"/>
              <a:chOff x="-20520" y="276120"/>
              <a:chExt cx="10117080" cy="6127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76120"/>
                <a:ext cx="1009980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20160" y="577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9600"/>
            <a:ext cx="905976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597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86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86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/>
          <p:nvPr/>
        </p:nvSpPr>
        <p:spPr>
          <a:xfrm>
            <a:off x="503280" y="7007400"/>
            <a:ext cx="23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26920" cy="3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68D04A0-4F63-427F-93AB-F5B06012BA32}" type="slidenum">
              <a:rPr b="0" lang="en-GB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11520" y="636480"/>
            <a:ext cx="25844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76440" y="2693880"/>
            <a:ext cx="8667720" cy="4248360"/>
            <a:chOff x="676440" y="2693880"/>
            <a:chExt cx="8667720" cy="4248360"/>
          </a:xfrm>
        </p:grpSpPr>
        <p:sp>
          <p:nvSpPr>
            <p:cNvPr id="182" name=""/>
            <p:cNvSpPr/>
            <p:nvPr/>
          </p:nvSpPr>
          <p:spPr>
            <a:xfrm>
              <a:off x="676440" y="2693880"/>
              <a:ext cx="866772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8360" y="2208240"/>
            <a:ext cx="92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0360" y="2879640"/>
            <a:ext cx="899964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Calibri"/>
                <a:ea typeface="Arial"/>
              </a:rPr>
              <a:t>Plano Nacional de Recursos Hídr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2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Calibri"/>
                <a:ea typeface="Arial"/>
              </a:rPr>
              <a:t>Um Pacto pelas Águas d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ffff"/>
                </a:solidFill>
                <a:latin typeface="Calibri"/>
                <a:ea typeface="Arial"/>
              </a:rPr>
              <a:t>Oficina Nacional de Consolidação do Processo Participativo da Revisão do PNR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ia Nacional de Recursos Hídricos e Ambiente Urb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RHU/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rasília, novembro de 20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Quadro analítico dos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04640" y="1495440"/>
          <a:ext cx="9360000" cy="5746680"/>
        </p:xfrm>
        <a:graphic>
          <a:graphicData uri="http://schemas.openxmlformats.org/drawingml/2006/table">
            <a:tbl>
              <a:tblPr/>
              <a:tblGrid>
                <a:gridCol w="4710960"/>
                <a:gridCol w="4649040"/>
              </a:tblGrid>
              <a:tr h="5746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os For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Oficinas ocorreram de forma participativa: contemplaram a posição e discussão dos diferentes entes envolvido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ouve alto grau de apropriação do Plano Nacional em relação ao anteriormente existente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ouve reforço da Região Hidrográfica como um território da GIRH, parcialmente apropriada pelos participantes d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De maneira geral, as participações apontaram prioridades regionai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ções repetidas nos Subprogramas sugerem revisão da estrutura lógica do Plano.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os Fr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Relacionado ao objetivo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Entendimento ainda frágil da escala/abrangência do PNR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Falta de entendimento dos participantes para diferenciar Ação de Diretri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Falta de entendimento das relações de causalidade entre as ações e do tempo necessário para a realização de cada Ação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ao objetivo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s propostas para a revisão da estrutura do PNRH, em sua maioria, são indiretas pois este não foi considerado item prioritário da metodologia das Oficinas Regionais e o tempo para esta atividade seria insuficiente.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Quadro analítico dos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0000" y="1589040"/>
          <a:ext cx="9607320" cy="5721480"/>
        </p:xfrm>
        <a:graphic>
          <a:graphicData uri="http://schemas.openxmlformats.org/drawingml/2006/table">
            <a:tbl>
              <a:tblPr/>
              <a:tblGrid>
                <a:gridCol w="4835520"/>
                <a:gridCol w="4771800"/>
              </a:tblGrid>
              <a:tr h="5721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afios/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alizar uma série de atividades de filtragem e complementação para sistematizar os resultados das Oficinas Regionais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Separar Ação de Diretriz nos quadros resultantes das Oficinas Regionais, relacionando as diretrizes com as ações às quais estejam vinculada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Organizar relações de causalidade entre as ações e agrupar diferentes Ações propostas n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efinir os responsáveis e parceiros para a execução de cada uma das ações proposta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Organizar e detalhar as ações priorizadas nas Oficinas Regionais em Resumos Executivos, dando ênfase na elaboração das consideradas mais relevantes pelos participantes das Oficin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is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Participação pouco representativa na Oficina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ão obtenção de apoio institucional/parceria da CT – PNRH para o encaminhamento dos produtos da revisão ao CN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42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Proposta Metodológica da 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800360"/>
            <a:ext cx="94312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G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  <a:ea typeface="Arial"/>
              </a:rPr>
              <a:t>consolidar o processo participativo de Revisão do PNRH 2025 desenvolvido com oficinas de trabalho (Nacionais e Regionais) ocorridas no ano de 2010, dando enfoque no planejamento da implementação do PNRH para os anos de</a:t>
            </a:r>
            <a:r>
              <a:rPr b="0" i="1" lang="pt-BR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  <a:ea typeface="Arial"/>
              </a:rPr>
              <a:t>2011-20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apresentar os resultados da sistematização dos produtos das Oficinas Regionais e Nacionais de Revisão do PNRH 202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debater e qualificar o detalhamento de ações prioritárias que envolvam diferentes entes do SINGREH para sua implementaçã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apresentar os encaminhamentos do processo de Revisão do PNRH 20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5440" y="77940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 -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60360" y="1800360"/>
          <a:ext cx="9358200" cy="5580000"/>
        </p:xfrm>
        <a:graphic>
          <a:graphicData uri="http://schemas.openxmlformats.org/drawingml/2006/table">
            <a:tbl>
              <a:tblPr/>
              <a:tblGrid>
                <a:gridCol w="4672080"/>
                <a:gridCol w="4686120"/>
              </a:tblGrid>
              <a:tr h="43488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bjetivo especí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esultado espe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58436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. apresentar os resultados da sistematização dos produtos das Oficinas Regionais e Nacionais de Revisão do PNRH 2025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conhecimento dos resultados das Oficinas (Regionais e Nacionais) ocorridas em 2010, principalmente no que se refere ao planejamento de ações entre 2011-2014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98432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i. debater e qualificar o detalhamento de ações prioritárias que envolvam diferentes entes do SINGREH para sua implementação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i. detalhamento executivo das principais ações apontadas nas Oficinas participativ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7644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apresentar os encaminhamentos do processo de Revisão do PNRH 2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conhecimento dos próximos passos para a finalização da Revisão do PNRH 2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1800360"/>
            <a:ext cx="943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Demanda elaboração prévia à Oficina Nacional das seguintes informações organizada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1) Matrizes que sintetizam as ações e encaminhamentos das Oficinas participativ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2) Consolidação, por meio da aplicação de critérios, de um conjunto de ações prioritárias que tiverem sido propostas nas Oficinas Regionais e Na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3) Detalhamento executivo das ações prioritári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(4) Próximos passos  da Revisão do PNRH 20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dutos prév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1800360"/>
            <a:ext cx="943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 Sistematização e análise dos resultados das Oficinas Regionais e Nacionais do PNRH em termos de ações 2011-201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Tratamento e Sistematização dos dados resultantes das Ofic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Definição das ações a serem detalhadas para a Oficina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 Detalhamento executivo de  ações a serem debatidas pelos grupos de trabalho da Oficina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1800360"/>
            <a:ext cx="943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1. Apresentação da síntese do processo participativo de Revisão do PNR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3/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2. Grupos de Trabalho para o debate sobre o detalhamento executivo de  açõ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4 e 25/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omento 3. Apresentação, em plenária do XII ENCOB, dos resultados d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rogramação: 25/11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s da Oficina Na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8360" y="1800360"/>
            <a:ext cx="943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ritérios às ações hierarquiz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ferencia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riz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relacionando, quando for o caso,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riz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com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às quais estejam vinculada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Identificar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 que não são da alçada do Plano 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 sim dos Planos Estaduais ou de Bacia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i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grup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 semelha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de texto ou que pretendem atingir a mesma finalidade) e unificá-l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v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relações de causalidade entre as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ropostas e agrupar, quando possível, diferent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complementa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pontar a região à qual a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ão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stá vinculad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esclarecendo a área e sua escala de abrangênc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Reg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. Agrupar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devam ser estabelecidas para a totalidade das Regiões Hidrográficas, e ações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reg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têm pertinência a somente um conjunto das Regiões Hidrográficas do país ou a uma região específica. Ao separar ações de caráter regionalizado e  de âmbito nacional é relevante buscar constituir “tipologias” de prioridades regionai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i. Destacar as ações que envol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ação articulada entre  diferentes entes do Sistema) em sua execução e as ações que dependem exclusivamente d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órgãos federa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a sua execuçã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iii. Destacar, ainda, 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ais vot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em termos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orcentuais do total dos vot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cada  Ofic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quadro com as informações associadas a cad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Reg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186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Contexto da Oficina Nacional na Revisão do PNRH 2025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68360" y="1800360"/>
            <a:ext cx="943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xtraídas ações e diretrizes relevantes dos debates realizados que sejam coerentes com a alçada do Plano 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transcrições, documentos técnicos e apresentaçõ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. A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devem ser estabelecidas para a totalidade das Regiões Hidrográficas,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de âmbi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regional,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têm pertinência a somente um conjunto das Regiões Hidrográficas do país ou a uma região específica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ç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que envolv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ação articulada entre  diferentes entes do Sistema) em sua execução e as ações que dependem exclusivamente d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órgãos federa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a sua execução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quadro com as informações associadas a cad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1 – Tratamento e Sistematização dos dados resultantes das Oficinas participativas – Oficinas Nacion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Os quadros apresentarão as ações detalhadas para os Trabalhos dos Grupos da Oficina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Deve-se escolh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Ações que envolvem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operação federat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=&gt; Integrar ações de ordem regional (tipologias) e ações de ordem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*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nsidera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diretriz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como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apontamentos que visam orientar a implementação da ação, garantindo a qualidade esperad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8360" y="1800360"/>
            <a:ext cx="943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talhamento das ações apontando quatro categorias (matriz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. Objetivo da 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b. Meta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que contenham os produtos resultantes da Ação e a data de entrega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. Diretrizes para a implementação das açõe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diretrizes não são obrigatórias – valorização das colocações das Ofici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. Executores e parceiros responsávei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ela implementação da ação.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2879640"/>
            <a:ext cx="943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Matriz lógica modelo de agrupemento de ações para os Grupos de Trabal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19200" y="4176720"/>
          <a:ext cx="8459280" cy="2518920"/>
        </p:xfrm>
        <a:graphic>
          <a:graphicData uri="http://schemas.openxmlformats.org/drawingml/2006/table">
            <a:tbl>
              <a:tblPr/>
              <a:tblGrid>
                <a:gridCol w="2217960"/>
                <a:gridCol w="1235160"/>
                <a:gridCol w="1464120"/>
                <a:gridCol w="1640160"/>
                <a:gridCol w="1901880"/>
              </a:tblGrid>
              <a:tr h="843120">
                <a:tc gridSpan="5"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UPO DE TRABALHO (ex. Eixo Temátic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580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bpro-g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retriz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1800360"/>
            <a:ext cx="943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icha “Resumo Executivo” de cada ação com as categor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. Nome da ação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(subprograma e programa do PNRH relaciona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b. Objetivo do Program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 apontando o objetivo do programa ao qual a ação está vincul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. Objetivo da 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. Metas esperada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, apontando os resultados parciais quantificados e vinculá-los à data de al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. Responsáveis e parceiros pela execução da 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. Diretrizes para implementar a açã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68360" y="1800360"/>
            <a:ext cx="943128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Resumo Executivo Model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Constituir uma Rede de Experiências de Educação, Comunicação e Mobilização Social em GIRH. </a:t>
            </a: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(Programa IV, subprogramas 2 e 3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Objetivo do Programa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(não possui objetivo do Program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Objetivo da ação: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Viabilizar o funcionamento continuado de uma rede de troca de experiências em comunicação, educação e mobilização social em GIRH para diferentes entes do SINGREH. 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Me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A - Experiências e atores mapeadas até o final de 2011 (02/2011-12/2011).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B - Plataforma virtual pronta até o meio de 2012 (10/2011-07/2012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C - Moderadores de rede formados e atuando até o final de 2012 (01/2012-09/2012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Diretrizes estratégicas: (se houv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Garantir que a construção da ferramenta e da formação em moderação de forma participativ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Conter enfoque educomunicativo, onde os envolvidos sejam participantes do desenvolvimento da ferramenta e contribuam com a definição da estratégia de formação e de atuação dos moderadores da Rede. Utilizar moderadores de instituições estabelecidas no Sistema e com perspectiva de continuidade na função para o critério de escolha e participação da formação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  <a:ea typeface="Arial"/>
              </a:rPr>
              <a:t>. Constituir a rede valorizando a perspectiva de Região Hidrográfica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Responsáveis pela Execução: SRHU (A, B e C) e ANA (B e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  <a:ea typeface="Arial"/>
              </a:rPr>
              <a:t>Parceiros: OGs, DEA, FNCBH e instituições com experiências mapeadas. (A, B e C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440" y="720720"/>
            <a:ext cx="9313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Trabalho técnico prév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2 – Detalhamento executivo de  ações a serem debatidas pelos grupos de trabalho da Oficina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1800360"/>
            <a:ext cx="943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ategorias de representaçã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6 representantes (dois por segmento) de cada Estad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. Conselheiros do Conselho Nacional de Recursos Hídricos (CNR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24 representantes do Fórum Nacional de Comitês de Baci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v. Representantes da Câmara Técnica do Plano Nacional de Recursos Hídricos (CTPNR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v. Representantes de Comitês de Bacia Federai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posta de Mobi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5440" y="923760"/>
            <a:ext cx="9313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posta de Mobiliz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Estimativa de participantes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60360" y="2519280"/>
          <a:ext cx="9180360" cy="355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2519280"/>
                    <a:ext cx="918036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1800360"/>
            <a:ext cx="943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3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ntextualização da Oficina Nacional e apresentação da síntese do processo participativo de Revisão do PNR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8h00 às 12h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Mesa de a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A Oficina Nacional no contexto da Revisão do PNRH (SRHU/M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 programação da Oficina (SRHU/M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Interva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 Síntese das Oficinas Particip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. Esclareci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os próximos passos da Revis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Esclareci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2h00 Encerramento das atividades do 1º 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1800360"/>
            <a:ext cx="943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4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talhamento das ações – trabalhos em grup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8h00 às 12h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Grupos de Trabalho - divisão por Eixo 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das elaborações técnicas por eixo temá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Debates nos grupos por Eixo 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12h00 Encerramento das atividades do 2º 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023840" y="2401920"/>
            <a:ext cx="8107560" cy="4516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Fases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8360" y="1800360"/>
            <a:ext cx="943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99ff"/>
                </a:solidFill>
                <a:latin typeface="Verdana"/>
                <a:ea typeface="Arial"/>
              </a:rPr>
              <a:t>26/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Arial"/>
              </a:rPr>
              <a:t>Horário a definir: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Apresentação em plenária:  Apontamentos para a construção de Estratégia Regional de Educação Ambiental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municação e Mobilização Social para GIR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Arial"/>
              </a:rPr>
              <a:t>Horário a defini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. Encerramento Oficial da Oficina Nacional de Consolidação do Processo Participa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440" y="923760"/>
            <a:ext cx="93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PROGRAM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03360" y="1828800"/>
            <a:ext cx="8580240" cy="1947960"/>
            <a:chOff x="603360" y="1828800"/>
            <a:chExt cx="8580240" cy="194796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603360" y="1828800"/>
              <a:ext cx="85802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03360" y="1828800"/>
              <a:ext cx="8580240" cy="19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84280" y="2981160"/>
            <a:ext cx="85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e desse pacto pelas águas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87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9720360" cy="4329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5440" y="923760"/>
            <a:ext cx="93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Fluxograma das três fases da revisão do PNR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500040" y="1414440"/>
            <a:ext cx="9075600" cy="1077840"/>
            <a:chOff x="500040" y="1414440"/>
            <a:chExt cx="9075600" cy="107784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500040" y="1414440"/>
              <a:ext cx="90756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00040" y="1414440"/>
              <a:ext cx="907560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6720" y="1351080"/>
            <a:ext cx="9266400" cy="4991040"/>
            <a:chOff x="396720" y="1351080"/>
            <a:chExt cx="9266400" cy="49910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396720" y="1351080"/>
              <a:ext cx="926640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96720" y="1351080"/>
              <a:ext cx="9266400" cy="49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97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Contexto da Oficina Nacional na Revisão do PNRH 2025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890640" y="1987560"/>
            <a:ext cx="9104400" cy="4654440"/>
            <a:chOff x="890640" y="1987560"/>
            <a:chExt cx="9104400" cy="4654440"/>
          </a:xfrm>
        </p:grpSpPr>
        <p:sp>
          <p:nvSpPr>
            <p:cNvPr id="300" name=""/>
            <p:cNvSpPr/>
            <p:nvPr/>
          </p:nvSpPr>
          <p:spPr>
            <a:xfrm>
              <a:off x="890640" y="1987560"/>
              <a:ext cx="910440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565200"/>
            <a:ext cx="9074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Eventos Nacion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38360" y="2060640"/>
            <a:ext cx="8332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6720" y="779400"/>
            <a:ext cx="9074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Foco: aprofundamento de temas</a:t>
            </a:r>
            <a:br>
              <a:rPr sz="36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de interesse para a GIR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44440" y="2225520"/>
            <a:ext cx="9237600" cy="4953240"/>
            <a:chOff x="244440" y="2225520"/>
            <a:chExt cx="9237600" cy="495324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244440" y="2225520"/>
              <a:ext cx="923760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44440" y="2225520"/>
              <a:ext cx="92376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Vertentes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208240"/>
            <a:ext cx="921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vert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ac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teve como objetivo debater e aprofundar sobre temas importantes da atualidade para a gestão de recursos hídr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s principais eventos relacion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MT"/>
              </a:rPr>
              <a:t> são os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Seminários Diálogos com a Á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vert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regio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NewRomanPS-ItalicMT"/>
              </a:rPr>
              <a:t>, com enfoque nas 12 Regiões Hidrográficas, e tem como objetivo geral promover a priorização regional das ações do PNRH para o período 2011-2014, harmonizadas entre os Estados pertencentes  a cada Região Hidrográf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316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Análise das Oficinas Regionais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17840"/>
            <a:ext cx="100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Figura 3 – Percentuais de ações propostas por Eixo Temático nas Regiões Hidrográf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001000" cy="395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2471760"/>
            <a:ext cx="100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Análise em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920" y="1676520"/>
            <a:ext cx="9524880" cy="5715000"/>
            <a:chOff x="304920" y="1676520"/>
            <a:chExt cx="9524880" cy="5715000"/>
          </a:xfrm>
        </p:grpSpPr>
        <p:grpSp>
          <p:nvGrpSpPr>
            <p:cNvPr id="324" name=""/>
            <p:cNvGrpSpPr/>
            <p:nvPr/>
          </p:nvGrpSpPr>
          <p:grpSpPr>
            <a:xfrm>
              <a:off x="304920" y="1676520"/>
              <a:ext cx="4768560" cy="2923920"/>
              <a:chOff x="304920" y="1676520"/>
              <a:chExt cx="4768560" cy="2923920"/>
            </a:xfrm>
          </p:grpSpPr>
          <p:sp>
            <p:nvSpPr>
              <p:cNvPr id="325" name=""/>
              <p:cNvSpPr/>
              <p:nvPr/>
            </p:nvSpPr>
            <p:spPr>
              <a:xfrm>
                <a:off x="412920" y="1676520"/>
                <a:ext cx="4552920" cy="29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  <a:ea typeface="Calibri"/>
                  </a:rPr>
                  <a:t>Pontos Fort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ffffff"/>
                    </a:solidFill>
                    <a:uFillTx/>
                    <a:latin typeface="Times New Roman"/>
                    <a:ea typeface="Calibri"/>
                  </a:rPr>
                  <a:t>Relacionado ao objetivo 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ficinas ocorreram de forma participativa: contemplaram a posição e discussão dos diferentes entes envolvido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Houve alto grau de apropriação do Plano Nacional em relação ao anteriormente existente.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Houve reforço da Região Hidrográfica como um território da GIRH, parcialmente apropriada pelos participantes d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De maneira geral, as participações apontaram prioridades regionai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ções repetidas nos Subprogramas sugerem revisão da estrutura lógica do Plano.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1676520"/>
                <a:ext cx="4768560" cy="29239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075280" y="1676520"/>
              <a:ext cx="4754520" cy="2923920"/>
              <a:chOff x="5075280" y="1676520"/>
              <a:chExt cx="4754520" cy="2923920"/>
            </a:xfrm>
          </p:grpSpPr>
          <p:sp>
            <p:nvSpPr>
              <p:cNvPr id="328" name=""/>
              <p:cNvSpPr/>
              <p:nvPr/>
            </p:nvSpPr>
            <p:spPr>
              <a:xfrm>
                <a:off x="5183280" y="1676520"/>
                <a:ext cx="4538520" cy="29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ontos Frac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Entendimento ainda frágil da escala/abrangência do PNRH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Falta de entendimento dos participantes para diferenciar Ação de Diretriz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Falta de entendimento das relações de causalidade entre as ações e do tempo necessário para a realização de cada Ação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Relacionado ao objetivo 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As propostas para a revisão da estrutura do PNRH, em sua maioria, são indiretas pois este não foi considerado item prioritário da metodologia das Oficinas Regionais e o tempo para esta atividade seria insuficiente.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75280" y="1676520"/>
                <a:ext cx="4754520" cy="29239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04920" y="4600440"/>
              <a:ext cx="4768560" cy="2791080"/>
              <a:chOff x="304920" y="4600440"/>
              <a:chExt cx="4768560" cy="2791080"/>
            </a:xfrm>
          </p:grpSpPr>
          <p:sp>
            <p:nvSpPr>
              <p:cNvPr id="331" name=""/>
              <p:cNvSpPr/>
              <p:nvPr/>
            </p:nvSpPr>
            <p:spPr>
              <a:xfrm>
                <a:off x="412920" y="4600440"/>
                <a:ext cx="455292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Desafios/Oportunidad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ealizar uma série de atividades de filtragem e complementação para sistematizar os resultados das Oficinas Regionais: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Separar Ação de Diretriz nos quadros resultantes das Oficinas Regionais, relacionando as diretrizes com as ações às quais estejam vinculadas.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rganizar relações de causalidade entre as ações e agrupar diferentes Ações propostas n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Definir os responsáveis e parceiros para a execução de cada uma das ações propostas.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Organizar e detalhar as ações priorizadas nas Oficinas Regionais em Resumos Executivos, dando ênfase na elaboração das consideradas mais relevantes pelos participantes das Oficina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4920" y="4600440"/>
                <a:ext cx="4768560" cy="27910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075280" y="4600440"/>
              <a:ext cx="4754520" cy="2791080"/>
              <a:chOff x="5075280" y="4600440"/>
              <a:chExt cx="4754520" cy="2791080"/>
            </a:xfrm>
          </p:grpSpPr>
          <p:sp>
            <p:nvSpPr>
              <p:cNvPr id="334" name=""/>
              <p:cNvSpPr/>
              <p:nvPr/>
            </p:nvSpPr>
            <p:spPr>
              <a:xfrm>
                <a:off x="5183280" y="4600440"/>
                <a:ext cx="453852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isc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Participação pouco representativa na Oficina Naciona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. Não obtenção de apoio institucional/parceria da CT – PNRH para o encaminhamento dos produtos da revisão ao CNR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75280" y="4600440"/>
                <a:ext cx="4754520" cy="27910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54160" y="493560"/>
            <a:ext cx="9428040" cy="6753240"/>
            <a:chOff x="254160" y="493560"/>
            <a:chExt cx="9428040" cy="6753240"/>
          </a:xfrm>
        </p:grpSpPr>
        <p:sp>
          <p:nvSpPr>
            <p:cNvPr id="343" name=""/>
            <p:cNvSpPr/>
            <p:nvPr/>
          </p:nvSpPr>
          <p:spPr>
            <a:xfrm>
              <a:off x="254160" y="493560"/>
              <a:ext cx="26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59120" y="493560"/>
              <a:ext cx="3222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FO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78600" y="493560"/>
              <a:ext cx="359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ATORES ENVOLV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" y="833400"/>
              <a:ext cx="26035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s Técnica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9120" y="833400"/>
              <a:ext cx="32227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efinição de ações prioritárias para o período 2011-2014 que sejam estruturantes para a gestão integrada dos recursos hídricos no âmbito das doze regiões hidrográficas brasilei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78600" y="833400"/>
              <a:ext cx="3598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 representantes do CNRH (governo federal, usuários e sociedade civil); órgãos gestores de recursos hídricos dos Estados da região; representantes de cada um dos Conselhos Estaduais de Recursos Hídricos da região (governo, usuários, sociedade civil); representantes de CBHs (governo, usuários e sociedade civil) e UGRHs; Agências de Água e mobilizadores regionai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4160" y="2936880"/>
              <a:ext cx="26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Diálogo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com a Águ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59120" y="2936880"/>
              <a:ext cx="3222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presentação e debates sobre temas que devem ser aprofundados no PNRH 202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78600" y="2936880"/>
              <a:ext cx="35989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atores envolvidos com as temátic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" y="3741840"/>
              <a:ext cx="2603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 Nacional de Consolidação do Processo Participa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9120" y="3741840"/>
              <a:ext cx="322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Consolidação das proposições ao PNRH 2025 na forma de priorização de ações e estratégias do Plano para o período 2011-201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8600" y="3741840"/>
              <a:ext cx="3598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6200">
                <a:lnSpc>
                  <a:spcPct val="100000"/>
                </a:lnSpc>
                <a:buClr>
                  <a:srgbClr val="404040"/>
                </a:buClr>
                <a:buFont typeface="Verdana"/>
                <a:buChar char="-"/>
                <a:tabLst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SRHU e ANA, representantes do CNRH, dos Conselhos Estaduais de Recursos Hídricos, dos CBHs; Órgãos gestores de recursos hídricos dos Estados; Agências de água; Comissões Organizadoras Regionais - CORs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06200">
                <a:lnSpc>
                  <a:spcPct val="100000"/>
                </a:lnSpc>
                <a:tabLst>
                  <a:tab algn="l" pos="0"/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outros a defin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160" y="5294160"/>
              <a:ext cx="26035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9120" y="5294160"/>
              <a:ext cx="32227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2025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 nas doze Regiões Hidrográficas brasileiras com retorno informativo visando a pactuação da implementaçã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78600" y="5294160"/>
              <a:ext cx="3598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4160" y="6200640"/>
              <a:ext cx="2603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 Nacional PNRH 2025: Resultados e Melhores Prática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59120" y="6200640"/>
              <a:ext cx="3222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s resultados da revis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e de experiências bem sucedidas relacionadas às ações prioritár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78600" y="6200640"/>
              <a:ext cx="35989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5912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7860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160" y="83340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4160" y="293688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160" y="374184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4160" y="52941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4160" y="620064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416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680400" y="493560"/>
              <a:ext cx="180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4160" y="4935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4160" y="724536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536840" y="19080"/>
            <a:ext cx="7007040" cy="477720"/>
            <a:chOff x="1536840" y="19080"/>
            <a:chExt cx="7007040" cy="477720"/>
          </a:xfrm>
        </p:grpSpPr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1536840" y="19080"/>
              <a:ext cx="70070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36840" y="19080"/>
              <a:ext cx="700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890640" y="1987560"/>
            <a:ext cx="9104400" cy="4654440"/>
            <a:chOff x="890640" y="1987560"/>
            <a:chExt cx="9104400" cy="4654440"/>
          </a:xfrm>
        </p:grpSpPr>
        <p:sp>
          <p:nvSpPr>
            <p:cNvPr id="376" name=""/>
            <p:cNvSpPr/>
            <p:nvPr/>
          </p:nvSpPr>
          <p:spPr>
            <a:xfrm>
              <a:off x="890640" y="1987560"/>
              <a:ext cx="910440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OFICINA NACIONAL DE CONSOLIDAÇÃO DO PROCESSO PARTICIPATIVO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Etapas do Processo Participativo da Revi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459160"/>
            <a:ext cx="100807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9372600" cy="334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477120"/>
            <a:ext cx="100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Figura –  Fluxograma das etapas do processo participativo de revisão do PNR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8360" y="2208240"/>
            <a:ext cx="9215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stabelecer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CTO NACIO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ara a definição de diretrizes e políticas públicas voltadas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PARA A MELHORIA DA OFERTA DA ÁGUA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m quantidade e qualidade, gerenciando as demandas e considerando ser a água um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ELEMENTO ESTRUTURANTE PARA A IMPLEMENTAÇÃO DAS POLÍTICAS SETORIAIS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ob a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  <a:ea typeface="Arial"/>
              </a:rPr>
              <a:t>ÓTICA DO DESENVOLVIMENTO SUSTENTÁVEL E DA INCLUSÃO SOCIAL</a:t>
            </a:r>
            <a:r>
              <a:rPr b="0" lang="en-GB" sz="2000" spc="-1" strike="noStrike">
                <a:solidFill>
                  <a:srgbClr val="21b2c9"/>
                </a:solidFill>
                <a:latin typeface="Verdana"/>
                <a:ea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5440" y="779400"/>
            <a:ext cx="931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bjetivo G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603360" y="1828800"/>
            <a:ext cx="8580240" cy="1947960"/>
            <a:chOff x="603360" y="1828800"/>
            <a:chExt cx="8580240" cy="194796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603360" y="1828800"/>
              <a:ext cx="85802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03360" y="1828800"/>
              <a:ext cx="8580240" cy="19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84280" y="2981160"/>
            <a:ext cx="85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e desse pacto pelas águas d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54160" y="493560"/>
            <a:ext cx="9428040" cy="6753240"/>
            <a:chOff x="254160" y="493560"/>
            <a:chExt cx="9428040" cy="6753240"/>
          </a:xfrm>
        </p:grpSpPr>
        <p:sp>
          <p:nvSpPr>
            <p:cNvPr id="197" name=""/>
            <p:cNvSpPr/>
            <p:nvPr/>
          </p:nvSpPr>
          <p:spPr>
            <a:xfrm>
              <a:off x="254160" y="493560"/>
              <a:ext cx="2603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9120" y="493560"/>
              <a:ext cx="3222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FO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493560"/>
              <a:ext cx="359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ATORES ENVOLVID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4160" y="833400"/>
              <a:ext cx="26035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s Técnica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59120" y="833400"/>
              <a:ext cx="32227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efinição de ações prioritárias para o período 2011-2014 que sejam estruturantes para a gestão integrada dos recursos hídricos no âmbito das doze regiões hidrográficas brasileira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78600" y="833400"/>
              <a:ext cx="35989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 representantes do CNRH (governo federal, usuários e sociedade civil); órgãos gestores de recursos hídricos dos Estados da região; representantes de cada um dos Conselhos Estaduais de Recursos Hídricos da região (governo, usuários, sociedade civil); representantes de CBHs (governo, usuários e sociedade civil) e UGRHs; Agências de Água e mobilizadores regionai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4160" y="2936880"/>
              <a:ext cx="26035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Diálogo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com a Águ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9120" y="2936880"/>
              <a:ext cx="3222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presentação e debates sobre temas que devem ser aprofundados no PNRH 2025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78600" y="2936880"/>
              <a:ext cx="35989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SRHU e ANA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atores envolvidos com as temátic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4160" y="3741840"/>
              <a:ext cx="2603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Oficina Nacional de Consolidação do Processo Participa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9120" y="3741840"/>
              <a:ext cx="3222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Consolidação das proposições ao PNRH 2025 na forma de priorização de ações e estratég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8600" y="3741840"/>
              <a:ext cx="3598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6200">
                <a:lnSpc>
                  <a:spcPct val="100000"/>
                </a:lnSpc>
                <a:buClr>
                  <a:srgbClr val="404040"/>
                </a:buClr>
                <a:buFont typeface="Verdana"/>
                <a:buChar char="-"/>
                <a:tabLst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SRHU e ANA, representantes do CNRH, dos Conselhos Estaduais de Recursos Hídricos, dos CBHs; Órgãos gestores de recursos hídricos dos Estados; Agências de água; Comissões Organizadoras Regionais - CORs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06200">
                <a:lnSpc>
                  <a:spcPct val="100000"/>
                </a:lnSpc>
                <a:tabLst>
                  <a:tab algn="l" pos="0"/>
                  <a:tab algn="l" pos="106200"/>
                  <a:tab algn="l" pos="554040"/>
                  <a:tab algn="l" pos="1003320"/>
                  <a:tab algn="l" pos="1452600"/>
                  <a:tab algn="l" pos="1901880"/>
                  <a:tab algn="l" pos="2351160"/>
                  <a:tab algn="l" pos="2800440"/>
                  <a:tab algn="l" pos="3249720"/>
                  <a:tab algn="l" pos="3699000"/>
                  <a:tab algn="l" pos="4148280"/>
                  <a:tab algn="l" pos="4597560"/>
                  <a:tab algn="l" pos="5046840"/>
                  <a:tab algn="l" pos="5495760"/>
                  <a:tab algn="l" pos="5945040"/>
                  <a:tab algn="l" pos="6394320"/>
                  <a:tab algn="l" pos="6843600"/>
                  <a:tab algn="l" pos="7292880"/>
                  <a:tab algn="l" pos="7742160"/>
                  <a:tab algn="l" pos="8191440"/>
                  <a:tab algn="l" pos="8640720"/>
                  <a:tab algn="l" pos="9090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- outros a defini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4160" y="5294160"/>
              <a:ext cx="26035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s Regiona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59120" y="5294160"/>
              <a:ext cx="32227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2025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 nas doze Regiões Hidrográficas brasileiras com retorno informativo visando a pactuação da implementaçã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78600" y="5294160"/>
              <a:ext cx="3598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160" y="6200640"/>
              <a:ext cx="2603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70c0"/>
                  </a:solidFill>
                  <a:latin typeface="Verdana"/>
                </a:rPr>
                <a:t>Seminário Nacional PNRH 2025: Resultados e Melhores Prática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59120" y="6200640"/>
              <a:ext cx="3222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Divulgação dos resultados da revisão do </a:t>
              </a:r>
              <a:r>
                <a:rPr b="0" i="1" lang="en-GB" sz="1200" spc="-1" strike="noStrike">
                  <a:solidFill>
                    <a:srgbClr val="404040"/>
                  </a:solidFill>
                  <a:latin typeface="Verdana"/>
                </a:rPr>
                <a:t>PNRH </a:t>
              </a: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e de experiências bem sucedidas relacionadas às ações prioritárias do Plano para o período 2011-2014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78600" y="6200640"/>
              <a:ext cx="35989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404040"/>
                  </a:solidFill>
                  <a:latin typeface="Verdana"/>
                </a:rPr>
                <a:t>Aber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5912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7860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160" y="83340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4160" y="293688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160" y="374184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4160" y="52941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4160" y="620064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4160" y="493560"/>
              <a:ext cx="144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680400" y="493560"/>
              <a:ext cx="1800" cy="67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160" y="493560"/>
              <a:ext cx="942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160" y="7245360"/>
              <a:ext cx="942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536840" y="19080"/>
            <a:ext cx="7007040" cy="477720"/>
            <a:chOff x="1536840" y="19080"/>
            <a:chExt cx="7007040" cy="47772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536840" y="19080"/>
              <a:ext cx="70070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536840" y="19080"/>
              <a:ext cx="700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52280" y="1504800"/>
            <a:ext cx="9585360" cy="4343400"/>
            <a:chOff x="152280" y="1504800"/>
            <a:chExt cx="9585360" cy="4343400"/>
          </a:xfrm>
        </p:grpSpPr>
        <p:sp>
          <p:nvSpPr>
            <p:cNvPr id="230" name=""/>
            <p:cNvSpPr/>
            <p:nvPr/>
          </p:nvSpPr>
          <p:spPr>
            <a:xfrm>
              <a:off x="152280" y="1504800"/>
              <a:ext cx="95853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60360" y="3371760"/>
            <a:ext cx="89996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5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 u="sng">
                <a:solidFill>
                  <a:srgbClr val="00ffff"/>
                </a:solidFill>
                <a:uFillTx/>
                <a:latin typeface="Calibri"/>
                <a:ea typeface="Arial"/>
              </a:rPr>
              <a:t>Breve análise das Oficinas Regionais de Revisão do PN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1812960"/>
            <a:ext cx="921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pontadas aproximadament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400 propost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não considerando su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dequação técnic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hierarquizaçã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realiz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5440" y="779400"/>
            <a:ext cx="9313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Oficinas Regionais de Revisão do P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  <a:ea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490760" y="3060720"/>
            <a:ext cx="697068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800360"/>
            <a:ext cx="92152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G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Promover a priorização regional para a implementação do PNRH 20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Verdana"/>
                <a:ea typeface="Arial"/>
              </a:rPr>
              <a:t>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. fortalecer a apropriação do Plano Nacional de Recursos Hídricos pelo SINGRE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ii. apontar ações prioritárias para a implementação do PNRH 2011-2014 no âmbito da Região Hidrográfic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iii. obter contribuições para a revisão da estrutura do Plano Nacion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5440" y="923760"/>
            <a:ext cx="9313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Verdana"/>
                <a:ea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A</dc:creator>
  <dc:description/>
  <dc:language>en-US</dc:language>
  <cp:lastModifiedBy>Requer Privacidade</cp:lastModifiedBy>
  <cp:lastPrinted>2010-11-10T15:54:02Z</cp:lastPrinted>
  <dcterms:modified xsi:type="dcterms:W3CDTF">2010-11-10T05:41:59Z</dcterms:modified>
  <cp:revision>15</cp:revision>
  <dc:subject/>
  <dc:title>Slide 1</dc:title>
</cp:coreProperties>
</file>